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AFD-16D1-4DCA-9262-08A357AB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3A7-EFC1-4C39-94EC-CC461D26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030-46DC-4ECB-AA08-8FC0708C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345-8410-4AF1-A2B5-29FD1024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8E5C1-510B-48FB-B532-7B97F40E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1DFA4-7858-453C-AB3F-A7BA74EE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3321E-518A-46E6-B40E-6316DAEB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C52BB-8401-4735-807A-3DD87865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01C65-5620-4C71-94A1-1962D95D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BE92F-C90D-470F-9430-D3E04666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0BBF3-B716-4528-9037-4EED1294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F52-BC75-4F4B-8139-6F052F2A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7FCF5-79AD-4C3A-ADAF-56C0FD28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FB726-2C4A-4573-9059-A0827103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ED006-0830-46A2-B64E-882170DD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499EB-9C60-498D-91A2-027585DC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D3300-FCE1-4149-BA33-361C27E7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F10-73F0-4829-8485-7DCA3ED7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29A-3629-4EAF-804A-443C45F3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399-3D09-4D54-83D7-67395157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0F3-CF02-4FA3-93D7-7B3D7E2A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783-66DC-4F5C-93D0-40546FB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303-2F10-483C-B784-BDA00AB8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EB2-3D62-47BF-B7D3-227C6CC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292C-4C4E-40F4-8A37-77F257F9B3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4A80-0C53-4B86-B3B8-95DBCD8C6D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aps on the goldfield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f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ps are like police men except they have no guns no badges and no correct uniform here is a picture of a t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18716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Traps had as Weapon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ps had a little pistol and a large stick or the had a sharp pointy swo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pons pi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3:06:05Z</dcterms:created>
  <dc:creator>joshua_matti</dc:creator>
  <dc:description/>
  <dc:language>en-US</dc:language>
  <cp:lastModifiedBy>joshua_matti</cp:lastModifiedBy>
  <dcterms:modified xsi:type="dcterms:W3CDTF">2010-08-24T05:11:45Z</dcterms:modified>
  <cp:revision>4</cp:revision>
  <dc:subject/>
  <dc:title> </dc:title>
</cp:coreProperties>
</file>